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29D-8B59-4BCE-BB32-47E06C4E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1DD-698C-4972-8475-AB66A79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223-B3E8-4D18-BEB3-873B9307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040-E246-40B0-83D1-377A3C24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983E-8ABF-4F50-8389-C9BCC1A8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766-A6E7-4BB7-97A4-E9C49250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623-6AE9-45F4-BCE6-9EC8650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B8E0-E2A6-4EC6-9054-615916A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1FDF-910A-4287-BD1D-A43206EC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624-D7BD-4CAE-811A-75C45DF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AC13-EE40-4AE6-B0DB-6C67710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457-CC43-427A-A0FE-21CF7590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110B-BA31-4B7E-AEE1-EAB11BE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CFC7-3EE6-4511-ACEC-8349BA0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97A-7DBE-4E01-BC7C-0C134CB6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51D8-8136-49AB-9E7C-BB23D622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7294-A86D-4351-AB77-52DCAA76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43F-E07F-4323-B418-7F05A18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9A8-FCFC-4E08-8DD5-88CB0163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C6A-BF81-4CAA-A65B-3895E190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F6E-BBAF-4F1D-814E-074A8E4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F21-77AB-43C8-908E-8A0625C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E61-9BE9-449E-9EBC-A17DBB8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918-3EC4-4DCF-BBEB-C291157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F6F6-475A-457F-992C-63F342ED221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F19D-1328-4C66-BE9E-60E321CE5C4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vels of Detail: An Over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2840" y="5181120"/>
            <a:ext cx="6102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oran Constantinesc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TN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ew frustum cul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LOD-optim-fig1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18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ibution cul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LOD-optim-fig2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4419360" cy="4394160"/>
          </a:xfrm>
          <a:prstGeom prst="rect">
            <a:avLst/>
          </a:prstGeom>
          <a:ln w="0">
            <a:noFill/>
          </a:ln>
        </p:spPr>
      </p:pic>
      <p:pic>
        <p:nvPicPr>
          <p:cNvPr id="121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cclusion cul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3" name="LOD-optim-fig3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419720" cy="4394160"/>
          </a:xfrm>
          <a:prstGeom prst="rect">
            <a:avLst/>
          </a:prstGeom>
          <a:ln w="0">
            <a:noFill/>
          </a:ln>
        </p:spPr>
      </p:pic>
      <p:pic>
        <p:nvPicPr>
          <p:cNvPr id="124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LOD-dist" descr=""/>
          <p:cNvPicPr/>
          <p:nvPr/>
        </p:nvPicPr>
        <p:blipFill>
          <a:blip r:embed="rId2"/>
          <a:stretch/>
        </p:blipFill>
        <p:spPr>
          <a:xfrm>
            <a:off x="1687680" y="3733920"/>
            <a:ext cx="7456320" cy="2857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tance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 far objects are from the view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mple, based on 3D 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play resolution depend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OD-size" descr=""/>
          <p:cNvPicPr/>
          <p:nvPr/>
        </p:nvPicPr>
        <p:blipFill>
          <a:blip r:embed="rId2"/>
          <a:stretch/>
        </p:blipFill>
        <p:spPr>
          <a:xfrm>
            <a:off x="5810400" y="1066680"/>
            <a:ext cx="3333600" cy="5019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ize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3389400"/>
            <a:ext cx="563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sed upon projected screen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jects appear smaller if far awa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expensive to calcul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LOD-eccent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4191120" cy="4838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ccentricity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2895120"/>
            <a:ext cx="4908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s in the periph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reduced percep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vea – high detai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ed head/eye track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OD-depth" descr=""/>
          <p:cNvPicPr/>
          <p:nvPr/>
        </p:nvPicPr>
        <p:blipFill>
          <a:blip r:embed="rId2"/>
          <a:stretch/>
        </p:blipFill>
        <p:spPr>
          <a:xfrm>
            <a:off x="3781440" y="3048120"/>
            <a:ext cx="536256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pth of field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5794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th of focus of the ey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sion area – high det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ed accur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ye track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LOD-veloc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4191120" cy="48387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elocity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200040"/>
            <a:ext cx="4800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gular velocity of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jects blur as they mo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bine with size L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ed eye track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csgsc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xed fram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ntain high and consistent frame r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ardless of the complex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 schedul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nalyze system lo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ssign LOD ratings to objec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tion of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llumination models (lighting, shadowing) for enhancing displayed detai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polygons + improved illumination alg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xture mapp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geometric detail = single texture polyg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roduces visual artifacts (for other viewpoint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ygon reduction algorith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rger and larger data set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numerical simulation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phical display limit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vels of detail (LO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3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mplementation of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tic L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lection of different resolutions of the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associated with a certain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range of det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mplicity of programm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igh storage requi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mited number of detai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ping effects during switching of detai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ynamic L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ata structure from which any desired LOD can be extracted at run-time (multiresolu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s a unified single represen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eds processing at run-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mplementation of LOD (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6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s detailed models are rendered wh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ser perceives less det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 different parts at different resolu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to handle extremely large mod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yet a system based on contemporary models of visual percep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52280" y="685800"/>
            <a:ext cx="8763120" cy="5908680"/>
            <a:chOff x="152280" y="685800"/>
            <a:chExt cx="8763120" cy="5908680"/>
          </a:xfrm>
        </p:grpSpPr>
        <p:pic>
          <p:nvPicPr>
            <p:cNvPr id="95" name="LOD-top500" descr=""/>
            <p:cNvPicPr/>
            <p:nvPr/>
          </p:nvPicPr>
          <p:blipFill>
            <a:blip r:embed="rId2"/>
            <a:stretch/>
          </p:blipFill>
          <p:spPr>
            <a:xfrm>
              <a:off x="152280" y="1079640"/>
              <a:ext cx="8763120" cy="55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LOD-top500b" descr=""/>
            <p:cNvPicPr/>
            <p:nvPr/>
          </p:nvPicPr>
          <p:blipFill>
            <a:blip r:embed="rId3"/>
            <a:stretch/>
          </p:blipFill>
          <p:spPr>
            <a:xfrm>
              <a:off x="165240" y="685800"/>
              <a:ext cx="480060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0080" y="227160"/>
            <a:ext cx="32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p 5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rra operations per second supercompu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mulation of larger physical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sy to generate 100sGBs and TBs of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 1: feature extra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extract some known feature from the da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 2: interactive navig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raphical render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me rate: 15-30 frames/se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5 f/sec – accept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0 f/sec – real time navig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me rate depends on the complex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rrent 3D graphics hardware not enoug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vel of Detail (LOD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different repres. of a geometric object (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different levels of accuracy and complexit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ss complex: better displaying spe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complex: more accurate represen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uman visual syste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r more tolerant to reduction in qua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s tolerant to delays in visual upd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radeo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etwe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sponsiveness and visual detai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lection of L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duce detail only when not perceiv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erent techniqu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ulling techniqu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tance and size ba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centricity, spe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th of fie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xed frame r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ll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ts of the geometry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se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utside of the user’s viewing pyrami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maller than a thresho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ccluded objec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ially occluded objec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 not represent them at 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csgsc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0922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ran Constantinescu</cp:lastModifiedBy>
  <dcterms:modified xsi:type="dcterms:W3CDTF">2001-05-08T03:04:42Z</dcterms:modified>
  <cp:revision>19</cp:revision>
  <dc:subject/>
  <dc:title>PowerPoint Presentation</dc:title>
</cp:coreProperties>
</file>